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364-1806-44B9-90FE-C0EAD66A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A0DD-49A8-4B9F-9BBB-629C3B64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A8052-03CC-4C30-AB95-1F122E16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78437-2684-472B-BA3B-72D4ED5F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5FFE1-2C97-4C83-B1FE-21DE2C1C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9FD68-1F88-4B9B-863E-1F74B4C6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C50FC-61D1-4CE9-90B9-F3F34023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39F0C-C568-4495-A3DF-89384A8B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27306-86A3-4629-BA38-13A6584B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B87A9-04CD-4A29-AE33-0BECD760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49907-D56C-4543-BA56-EFA9BE60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6DA39-59B8-42BD-88B3-E3EC1DD5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A60C-3758-41A2-B98F-8596D09B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D038C-6C4B-49F6-8AD0-775289B9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0A44E-DDD1-45AE-8211-C662A7BF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052BB-624A-49B8-B0F7-61DD825F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EE5CB-60CD-4C28-8A77-09889666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1D427-841D-4C86-A654-2AD42468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84E83-9085-4C81-96BF-6EB770FB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EB2BA-45F9-4C16-A3D4-A2F12DE6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55758-B03B-4ACB-BEAD-D9CE8067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CF565-79A8-41AF-85B7-B140C7CD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43F9A-0D95-43BD-80B9-BB207650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6328-29B0-4C98-AF2A-748C15EE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5ED0E-DC66-4082-9939-245A0AD8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6E05F-759D-4870-B907-F7053E1C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6C537-041F-4320-8F34-AFB3F3A0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330F6-2678-4648-8403-875BE1A5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78296-4DE2-4AC9-9E22-44BBC5A1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D168C-BAF2-4784-A436-B999B9C2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9D318-3028-499C-814A-C933E4C8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DEB79-B775-4CE9-A399-C94E917D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0183F-5C3A-411B-9212-489315CC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4CB0B-134B-4C45-83B0-F5248AFF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FF76-C89A-4648-88CB-5F0A8150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8DF8B-2C80-4E20-AFEC-56F03C1B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C469C-189E-46F6-878E-B16AFFB5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A6B13-FE4E-44CA-B37C-D1B7314D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FB35B-8605-437D-875C-6C2E976E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B9616-0AB8-4F5A-ACC2-79CCE6BF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DB0F8-0F2F-45D3-A342-1C981DB4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0F77C-292B-4C49-BF8F-C7652E42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C6784-C5CE-4048-B49C-C6274F94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F1BF9-8869-482B-B62B-3B309861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3DC81-C498-458B-A64B-2F77A0AC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7D5F-03A9-4007-B733-F32EE1AB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01765-0506-455D-A3FE-A0797DEE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F86F5-4A9D-454E-841D-0E797BA8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89BFE-E8D8-4959-A017-55C33D09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E0BBF-7DD7-4648-94D9-9A8C20A2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F4FFE-BDB3-43E0-A5CF-6A2D7547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A76BE4-728C-41CE-A1E2-C1A5A40E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0A237-91C5-487E-BFC2-21D74FC2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83073C-A809-42EA-9551-FF2C8811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6AE6F1-64E3-4D1D-9263-7B0CEB19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D8346F-595B-4B6F-B781-D9F617E2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5998-CE5B-4E51-95AE-A23035E1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D60D2A-3773-4EB3-8137-156E0A11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362A9-6FC5-4076-A320-AD6D47C5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431C2E-4960-4512-B250-5C7D84B1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C8DB9-FB7A-4AC7-A54A-2E53DA02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B22D73-0D80-460C-9CC1-59AA96CF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ECAD0-98EF-4DEA-AAEA-48C36BD8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33BFE-25E7-4CB1-9659-3071BE7A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4E9AEF-CC12-43BC-BE4D-B8D6FF53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CA16D9-1FE9-4448-B3E1-8AEB87FF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0D532B-6AF6-48AB-B041-A773B189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30F7-FB73-4EDA-82E6-FFFC0F1E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831333-3FB3-4AB8-8541-E6D36E38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5BCD4D-4BB0-45B1-A2DD-AD6F5C41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A9D4E3-8D7E-474A-A520-8093C07D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0030FC-C049-4C9B-80B3-279281B7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B9FF21-B499-45F6-BCB9-3F91E1C2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D91D54-0484-477E-94C3-EA16B23C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07BC26-1543-44CB-B5B0-6E938AD3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9AA30D-9A19-4DCF-A084-BB7E22C4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B06220-5779-4448-A036-8EC9B49C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C667-E1A3-4E05-801B-0023AA44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6F87-BF53-4B47-B508-0C39D04D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57D0-4E1B-4982-9DBC-3078E2E4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A8E0-4638-4010-BA6B-57079D3D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6CB0-EFF2-467A-B201-B33D7F72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61DD-093D-4B61-AF5D-39E6AF70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9029-D77B-4B28-962A-B6F02B72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31A7-C057-44C8-9B2D-638B9BE2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A667-D90E-4B4D-A332-2E95B432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9E4F6-CB2F-4E1E-AA1B-508B0380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DCC15-E698-46B3-84EE-88D8A111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C613C-4C68-438E-A849-4114495F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2E993-769B-4F17-90E1-CEEB3939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7A41C-8F1A-4492-9AA8-9D018249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8FD-FB42-4552-B551-8C3B68E2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9DBFD-BEF4-4A22-989F-569CFFF7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5E05A-FB84-4A1C-BBBF-8935308B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BE8A9-740A-45C1-BF59-3C617C83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74A89-C811-4A90-BBF2-8633660E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3E0F8-AE95-4E36-8F40-CA30AB2A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4E80A-1620-4EF4-9D75-5DCCFF0B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9EB63-B667-4A20-86DF-5A4C13F1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267E5-9D7B-46A4-8D21-48D5AD3D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88120-2508-48FD-AFE1-4A52AE76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0B906-0DC2-4701-9831-C014294A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B09-AAB9-4960-9D7F-051D7427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206C6-E8C2-4368-9754-72D70C69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C5BD1-8D3A-4198-BE37-237DFB18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E6006-F275-4E9D-9B19-B8D2B3FD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42E5D-1A23-401D-9937-8788089F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2BD48-685D-490E-B48F-635AECEF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E9319-5F13-4B15-B494-7A62B696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4A77A-C3B3-416E-959C-1E1AB841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0D967-150F-43B2-953F-4102D827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0A9A5-5F21-491E-A3FA-20F381DA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8F576-25D2-4EA8-8F44-ADA12A895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365D-B21A-4812-AFAF-50F47EE6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675A5-2D18-4F5B-B05E-4D021C20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22A6B-79BD-49FD-834D-61966A2D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0BBB3-8653-4D41-AC3E-AF43346B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43AD0-CD4E-4D1C-9209-FE97E245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AA9B3-1551-4A4D-B246-8B26C0B3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A5141-53BC-4BAB-8CE0-D3D50397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0EC23-5C0A-4632-BD99-E2D626F3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7531B-0CBD-4568-B651-5282A7B1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0EBA4-6C26-4673-9E1F-156733F6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CFC1B-1CDF-4408-BE83-6E23951E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DFE9-B895-485E-AE18-8442DD94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78B5C-51F7-4574-9C71-8F96A889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46C6F-86F6-4D64-A32B-FA646740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A9E4C-F64C-4C7A-A5DF-68015159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35953-789F-406A-BFC1-ADCD2B95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0B3C0-714C-49B9-B0D0-ADF97216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7F38F-0D6A-4365-B6E3-43FC6BED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9A9EB-098F-4C5A-925D-B5BEA949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083EE-8BBC-47FA-BF5E-4ED68172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895F4-EAA4-4AE0-BA7B-681F5E5B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C46D5-F41A-4EBA-AD05-22A3BB76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2FE5-335B-4DF0-B9E1-E0574E3E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3E4CE-B725-4DAB-BE5F-792DCFFD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599E6-CC49-4DDF-BC92-F6D1322B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AD7C5-F276-41A2-9E51-DE927BAA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4BDE6-517B-491E-9A3B-E6B5C4DA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420B1-984F-4FF2-A5CC-4D66E406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85AE2-5BA3-462F-8E28-B7500915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E5DC6-A5CC-465B-A6D9-FEFFF0DE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20484-646F-4FF4-AE29-1DB65FC7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36AF9-EA7A-4D33-9B60-74933F22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44D8B-88DF-4CE6-87CC-572CA8E1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1638-F832-47F3-80BB-AB49F108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7E5BE-594C-4BCE-B214-70B7DE12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63878-A14B-467B-A9A2-30519E35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9767D-2848-4409-A92E-AE0D405E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E23E0-68BF-4F89-8E74-58AEB638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DDF4C-79DB-46F9-A99E-C8CB3BF6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218DB-55E7-462B-9C2E-D76030E7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5BB44-9D34-4BF9-8D51-6B1FA223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CE015-083B-4C30-A94C-C7AE6C88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52AC1-98E3-4FE6-8D0B-631A0202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B081B-F510-40BF-8B57-665EEF45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D654-08E4-4C0C-ADB6-862DF257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C491C-F0D0-4F7F-9DC7-5E5BE309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CB004-7024-4C79-92DC-D0418E3C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17F84-78D0-44CF-B25A-C9F58D68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4F211-233A-4FDF-849F-03922051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1F8AC-3AD9-40B1-9EDF-69C4E9B3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BE368-223C-4BDB-A651-A41B0FF7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3F807-ACFE-490B-9010-367DE405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6D5C5-9FDC-4D9F-88AD-4141F996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BC665-CFAC-4FD4-B8F5-5D3A1EB4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CBC38-E447-4CE9-8EEE-27B499F3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2691-9468-4755-8570-715E13D51E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0DF9-F201-4A91-9B8A-73060153C58D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ACDE-CEE4-47A8-815F-77C0AEC22C48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F8D8-45DA-4B53-BEF8-EA8D8877EC8E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8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77EC-527B-4F20-AD06-027006B96617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3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3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3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0EC1-8658-48D9-9700-4945A5259CA8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A6FD-84DF-4159-8D91-6708DE4C504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8CC4-BDF5-4559-97EA-74A253C9EC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F9FC-4F71-4696-A60D-53E5727EAC9C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50DF-7932-4818-8091-55F26DF90583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4432-B00B-4DFA-8AB8-6FB810BE9A43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FBA8-327E-47CA-B811-A74CD71FCCE7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1D8F-D0ED-4517-AB31-9278189D62DF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DEA1-A84A-48EB-8C1E-BA57FC5B4EDA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54200" y="234900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a50021"/>
                </a:solidFill>
                <a:latin typeface="Calibri"/>
              </a:rPr>
              <a:t>Организационно-педагогические условия повышения эффективности деятельности школьных спортивных клубов в направлении формирования культуры здоровья обучающихс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Прямоугольник 2"/>
          <p:cNvSpPr/>
          <p:nvPr/>
        </p:nvSpPr>
        <p:spPr>
          <a:xfrm>
            <a:off x="449280" y="472428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Ведущий научный сотрудни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отдела научно-методического сопровождения общего образов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ГАУ ДПО «Институт развития образования Пермского края», кандидат педагогических наук, доцент Чедов Константин Васильеви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5" descr="logo2"/>
          <p:cNvPicPr/>
          <p:nvPr/>
        </p:nvPicPr>
        <p:blipFill>
          <a:blip r:embed="rId1"/>
          <a:stretch/>
        </p:blipFill>
        <p:spPr>
          <a:xfrm>
            <a:off x="395280" y="189000"/>
            <a:ext cx="1874880" cy="1243080"/>
          </a:xfrm>
          <a:prstGeom prst="rect">
            <a:avLst/>
          </a:prstGeom>
          <a:ln w="0">
            <a:noFill/>
          </a:ln>
        </p:spPr>
      </p:pic>
      <p:sp>
        <p:nvSpPr>
          <p:cNvPr id="683" name="Прямоугольник 7"/>
          <p:cNvSpPr/>
          <p:nvPr/>
        </p:nvSpPr>
        <p:spPr>
          <a:xfrm>
            <a:off x="2799000" y="404640"/>
            <a:ext cx="510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раевой вебинар для учителе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физической куль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Прямоугольник 5"/>
          <p:cNvSpPr/>
          <p:nvPr/>
        </p:nvSpPr>
        <p:spPr>
          <a:xfrm>
            <a:off x="1332000" y="3697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ое организационно-п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дагогическ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услов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Прямоугольник 6"/>
          <p:cNvSpPr/>
          <p:nvPr/>
        </p:nvSpPr>
        <p:spPr>
          <a:xfrm>
            <a:off x="539640" y="83664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ализац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комплекса мероприятий, направленных на формирование 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кольник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представлений об эталонном здоровьеориентированном поведен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смотр обучающимися тематических видеоматериалов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зъяснение важности соблюдения двигательного режим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беждение в значимости для здоровья физической культуры, подтверждающегося примерами выдающихся людей и общественно значимых деятелей прошлого и современности, которых отличает высокий уровень личностной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Прямоугольник 5"/>
          <p:cNvSpPr/>
          <p:nvPr/>
        </p:nvSpPr>
        <p:spPr>
          <a:xfrm>
            <a:off x="1187280" y="40464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торое 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539640" y="1052640"/>
            <a:ext cx="806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тренером-преподавателем из числа занимающихся в учебно-тренировочных группах актива спортсменов, проявляющих склонность к организатор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сновной функциональной обязанностью членов актива является организация коллективной творческой деятельности участников спортивного клуба на основе принципа формирования личности через коллектив, который регулирует все виды коллективной деятельности участников клуба: процесс разработки положений о проведении физкультурно-спортивных мероприятий, и распределение ролей, и организацию репетиций перед подготовкой к соревнованиям и показательным выступлениям, а также подготовку и проведение различных других клубных мероприятий. В результате у обучающихся нарабатывается опыт социально-ориентированного поведения, развивается инициативность, личная активность, чувство долга перед товарищами и ответственность за успех коллективного дел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Прямоугольник 5"/>
          <p:cNvSpPr/>
          <p:nvPr/>
        </p:nvSpPr>
        <p:spPr>
          <a:xfrm>
            <a:off x="971640" y="40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ть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Прямоугольник 6"/>
          <p:cNvSpPr/>
          <p:nvPr/>
        </p:nvSpPr>
        <p:spPr>
          <a:xfrm>
            <a:off x="539640" y="1052640"/>
            <a:ext cx="806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аимодействие всех субъектов образовательной деятельности: «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обучающийс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школьный учител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тренер-преподавател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детский спортивный коллекти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родител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ы работы для обеспечения необходимой и достаточной осведомленности учителей физической культуры, тренеров-преподавателей, родителей и классных руководителей в вопросах формирования культуры здоровья обучающихс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 информирование о целях и задачах каждого этапа процесса формирования культуры здоровья обучаю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 взаимодействие учителей физической культуры и тренеров-преподавателей с родителями и классными руководителями для отслеживания динамики становления здоровья обучающихся и развития у них культуры здоровь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 групповое и индивидуальное консультирование родителей по вопросам воспитания у обучающихся навыков здорового образа жизни и корректировки при необходимости индивидуального стиля жиз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ительным здоровьесберегающим потенциалом обладает организация различных совместных мероприятий с участием детского спортивного коллектива, школьных учителей, ро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Прямоугольник 5"/>
          <p:cNvSpPr/>
          <p:nvPr/>
        </p:nvSpPr>
        <p:spPr>
          <a:xfrm>
            <a:off x="1042920" y="404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тверто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Прямоугольник 6"/>
          <p:cNvSpPr/>
          <p:nvPr/>
        </p:nvSpPr>
        <p:spPr>
          <a:xfrm>
            <a:off x="539640" y="105264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 индивидуальных особенностей здоровья обучающихся – участников школьного спортивного клуб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ультаты диагностики позволяют педагогу посредством педагогического сопровождения выстраивать индивидуальную траекторию здоровья каждого обучающегося и осуществлять выбор форм и методов формирования тех компонентов культуры здоровья, которые менее развиты у данного школьни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323640" y="2565000"/>
            <a:ext cx="8172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Чедов Константин Васильевич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ведущий научный сотрудник отдела научно-методического сопровождения общего образовани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ГАУ ДПО «Институт развития образования Пермского края», кандидат педагогических наук, доцен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Constantia"/>
              </a:rPr>
              <a:t>г. Пермь, ул. Бородинская, 35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Тел. 8922649817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Адрес электронной почты: </a:t>
            </a:r>
            <a:r>
              <a:rPr b="0" i="1" lang="en-US" sz="2400" spc="-1" strike="noStrike">
                <a:solidFill>
                  <a:srgbClr val="0076a3"/>
                </a:solidFill>
                <a:latin typeface="Constantia"/>
              </a:rPr>
              <a:t>chedovkv@yandex.r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916000" y="620280"/>
            <a:ext cx="52419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Контактная информация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43" name="Picture 5" descr="logo2"/>
          <p:cNvPicPr/>
          <p:nvPr/>
        </p:nvPicPr>
        <p:blipFill>
          <a:blip r:embed="rId1"/>
          <a:stretch/>
        </p:blipFill>
        <p:spPr>
          <a:xfrm>
            <a:off x="303120" y="836640"/>
            <a:ext cx="19814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Rectangle 8"/>
          <p:cNvSpPr/>
          <p:nvPr/>
        </p:nvSpPr>
        <p:spPr>
          <a:xfrm>
            <a:off x="905040" y="857160"/>
            <a:ext cx="770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  <a:ea typeface="Calibri"/>
              </a:rPr>
              <a:t>Клуб </a:t>
            </a:r>
            <a:r>
              <a:rPr b="0" lang="ru-RU" sz="3600" spc="-1" strike="noStrike">
                <a:solidFill>
                  <a:srgbClr val="a50021"/>
                </a:solidFill>
                <a:latin typeface="Calibri"/>
                <a:ea typeface="Calibri"/>
              </a:rPr>
              <a:t>– это объединение людей на основе общих интересов и потребностей; форма взаимодействия в среде их жизнедеятельности, обеспечивающая им условия для личностного самовыражения, самоутверждения и личностной самореализ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Рисунок 6" descr=""/>
          <p:cNvPicPr/>
          <p:nvPr/>
        </p:nvPicPr>
        <p:blipFill>
          <a:blip r:embed="rId1"/>
          <a:srcRect l="28053" t="14352" r="10500" b="7482"/>
          <a:stretch/>
        </p:blipFill>
        <p:spPr>
          <a:xfrm>
            <a:off x="395280" y="476280"/>
            <a:ext cx="8353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Рисунок 5" descr=""/>
          <p:cNvPicPr/>
          <p:nvPr/>
        </p:nvPicPr>
        <p:blipFill>
          <a:blip r:embed="rId1"/>
          <a:srcRect l="28236" t="20304" r="10844" b="13893"/>
          <a:stretch/>
        </p:blipFill>
        <p:spPr>
          <a:xfrm>
            <a:off x="826920" y="620640"/>
            <a:ext cx="7561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Рисунок 7" descr=""/>
          <p:cNvPicPr/>
          <p:nvPr/>
        </p:nvPicPr>
        <p:blipFill>
          <a:blip r:embed="rId1"/>
          <a:srcRect l="33189" t="26719" r="15398" b="18320"/>
          <a:stretch/>
        </p:blipFill>
        <p:spPr>
          <a:xfrm>
            <a:off x="1258920" y="404640"/>
            <a:ext cx="6769080" cy="3961080"/>
          </a:xfrm>
          <a:prstGeom prst="rect">
            <a:avLst/>
          </a:prstGeom>
          <a:ln w="0">
            <a:noFill/>
          </a:ln>
        </p:spPr>
      </p:pic>
      <p:sp>
        <p:nvSpPr>
          <p:cNvPr id="700" name="Прямоугольник 8"/>
          <p:cNvSpPr/>
          <p:nvPr/>
        </p:nvSpPr>
        <p:spPr>
          <a:xfrm>
            <a:off x="611280" y="458136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грамма соответствует целям и задача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ого проекта «Спорт-норма жизни» национального проекта «Демография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ого проекта «Успех каждого ребенка» национального проекта «Образование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атегии развития физической культуры и спорта в РФ до 2030 года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Прямоугольник 8"/>
          <p:cNvSpPr/>
          <p:nvPr/>
        </p:nvSpPr>
        <p:spPr>
          <a:xfrm>
            <a:off x="684360" y="4221000"/>
            <a:ext cx="792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В характеристике современного состояния развития школьного спорта отмечено, ч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общее количество школ в стране 40,4 тыс., из них 23 тыс. находятся в сельской местности;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 в 14 тыс. школ нуждаются в ремонте спортивного зал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633 – в перепрофилировании помещений для уроков физкультур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в 22534 школах отсутствует ШСК (</a:t>
            </a: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школьный спортивный клуб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5" name="Picture 2" descr="dop.pskovedu.ru"/>
          <p:cNvPicPr/>
          <p:nvPr/>
        </p:nvPicPr>
        <p:blipFill>
          <a:blip r:embed="rId1"/>
          <a:stretch/>
        </p:blipFill>
        <p:spPr>
          <a:xfrm>
            <a:off x="1403280" y="260280"/>
            <a:ext cx="5832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Рисунок 6" descr=""/>
          <p:cNvPicPr/>
          <p:nvPr/>
        </p:nvPicPr>
        <p:blipFill>
          <a:blip r:embed="rId1"/>
          <a:srcRect l="19811" t="15115" r="7835" b="10688"/>
          <a:stretch/>
        </p:blipFill>
        <p:spPr>
          <a:xfrm>
            <a:off x="108000" y="620640"/>
            <a:ext cx="8891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3" name="Picture 2" descr="В России к 2024 году планируют создать спортклубы в каждой школе"/>
          <p:cNvPicPr/>
          <p:nvPr/>
        </p:nvPicPr>
        <p:blipFill>
          <a:blip r:embed="rId1"/>
          <a:stretch/>
        </p:blipFill>
        <p:spPr>
          <a:xfrm>
            <a:off x="1547640" y="115920"/>
            <a:ext cx="6480360" cy="42894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4" descr="https://avatars.mds.yandex.net/get-zen_doc/4368340/pub_60394c99732f3c7f624342d7_60394cf2732f3c7f6243dd3f/scale_1200"/>
          <p:cNvPicPr/>
          <p:nvPr/>
        </p:nvPicPr>
        <p:blipFill>
          <a:blip r:embed="rId2"/>
          <a:stretch/>
        </p:blipFill>
        <p:spPr>
          <a:xfrm>
            <a:off x="2916360" y="4941720"/>
            <a:ext cx="5095800" cy="1810080"/>
          </a:xfrm>
          <a:prstGeom prst="rect">
            <a:avLst/>
          </a:prstGeom>
          <a:ln w="0">
            <a:noFill/>
          </a:ln>
        </p:spPr>
      </p:pic>
      <p:sp>
        <p:nvSpPr>
          <p:cNvPr id="715" name="Прямоугольник 7"/>
          <p:cNvSpPr/>
          <p:nvPr/>
        </p:nvSpPr>
        <p:spPr>
          <a:xfrm>
            <a:off x="468360" y="4365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спорте программы в перечне ожидаемых результатов указан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Прямоугольник 5"/>
          <p:cNvSpPr/>
          <p:nvPr/>
        </p:nvSpPr>
        <p:spPr>
          <a:xfrm>
            <a:off x="324000" y="189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дагогическ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услов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вокупность объективных возможностей содержания, форм, методов и материально-пространственной среды, обеспечивающих решение поставленных образовательных задач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Picture 3" descr="https://avatars.mds.yandex.net/get-zen_doc/3957194/pub_5fb62222541585566c40d623_5fb62540d60cd1779220f51c/scale_1200"/>
          <p:cNvPicPr/>
          <p:nvPr/>
        </p:nvPicPr>
        <p:blipFill>
          <a:blip r:embed="rId1"/>
          <a:stretch/>
        </p:blipFill>
        <p:spPr>
          <a:xfrm>
            <a:off x="971640" y="1844640"/>
            <a:ext cx="738972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4T16:27:00Z</dcterms:created>
  <dc:creator>Лядова</dc:creator>
  <dc:description/>
  <dc:language>en-US</dc:language>
  <cp:lastModifiedBy>Администратор</cp:lastModifiedBy>
  <dcterms:modified xsi:type="dcterms:W3CDTF">2021-05-27T06:38:16Z</dcterms:modified>
  <cp:revision>126</cp:revision>
  <dc:subject/>
  <dc:title>Достижение и оценка результатов воспитания и обучения здоровому образу жизни  младших школьников  в контексте требований ФГОС НО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6020</vt:lpwstr>
  </property>
</Properties>
</file>